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DAC-B6F6-4FBE-AC97-035139EA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413-53BB-48B9-9956-23D6629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79434-68B8-48A7-A2E5-416D8A90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07F7-9BED-4A1B-BE58-AFB2144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42E9-9894-44C1-A912-8259716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AE1F-3B60-45FA-B3D1-7639AE9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6A6BC-8A4C-40C0-B33A-1147D7C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6C82-0A59-4864-A22C-908E9BF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62409-F9CA-4560-805A-E1B2BBC2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52835-8F28-4993-B2D7-6D06CD97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AF56B-BF1F-4703-B1E2-29A7BF09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9B1-526E-496E-8ECD-795C29C3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ED1-4C44-4121-9F58-0E38CF7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5A8-2E50-4BD9-A7C8-11FC2C60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367-0D74-48DE-8983-E94CE02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E833-7F84-45B8-AAB8-A7A21F0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C967-3C16-4A6F-A743-9E00321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7E90-F643-4EE7-ACAB-7985F87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F22-3266-494D-8FD0-D78E70F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E16-BECD-483F-803A-1A245FA0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463-D8AF-4BA7-82CC-F43A2A3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BDBF-DFD3-4FF7-8FB0-D40DE63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3506-0A78-41DC-BEBE-79E3AFB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9F5-A5B3-4A3D-9B70-AFBA4E4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D28-FE2A-4D23-8F63-46F2E27F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2F12-E657-4F7D-8053-6612ACDC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465E-FEB4-47F2-AFDF-FB811A53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9FA9-E62E-43FA-AD48-081F11A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7AF8-5795-489A-B911-747BC429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D927-9890-40F3-87C5-F852E5F2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9405-6CB7-4D3F-824E-1F276CC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58D-A0EA-47F3-862B-8CF7E8F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15AD-3904-462F-9CB9-327B2B2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ECCB-287D-4A4B-A7A9-EA0E7B3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400C-0886-45A4-B3CD-0F81CD75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8136-493A-4B1B-9639-4125AF2B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C5D4-3BC7-426A-A8DA-CDFBB19C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8BBC-D80A-49FA-AF12-52E8D7D3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E271-666D-4E7A-98BF-6E74C15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6758-2BEB-4BF1-AB65-10ACC3D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0DD06-0AC1-4212-A7F0-7AE5D8B8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C155-F185-4196-85B4-323C688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FCE-6520-47B1-A0A1-6405BD26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39AF-F1DB-4845-A928-ADCACFE4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3845-1D98-4E78-9BFB-4BF3E4F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7AA3-C963-458C-A996-2B41928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D1D6-161B-4483-9C93-099BB53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4F2C-6E92-4CA6-9C15-5CD0AD2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6CFC-A337-4CCB-B2C4-3CA2963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A665-26F2-4CBD-9AB3-459C5CA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D8EA-65E4-41FE-8390-516514D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03AF-FD20-4DB5-A96A-2E17D7A4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7CF3-A808-42AC-BA61-CA1D13C5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FF8-22FB-4116-9953-E6B42C8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AA3D-90B8-44B3-A5E2-8506C9FB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2697-CB96-4E21-BB2D-DFB3FDE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BD43-CD52-46F7-AD8A-075B967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227D-443C-486B-BF00-B6F2B02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1F38-7F4D-4F95-BE1C-3FDB5DF5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0E6C-572F-466F-9FF6-ED195F3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5A9B-ED69-48ED-ADE9-4A7EFCC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AA9F-5287-4385-AC5D-829F4AA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3A6A2-E48C-49B9-9260-CB7DFBD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8309-7852-4BEA-8302-88314726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E8B-EEE2-46FB-9E2E-68326B24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3C37-85C0-472B-86E5-452BACA1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7ABA0-128E-4071-A6C4-BF81693F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F948-F001-42CD-AA0A-6374A97D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6D2A-5FB9-43A9-B968-72D7161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E460-D229-461E-BF53-5796727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DE1F-3E00-4703-9D00-39EAE3E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72C9-E96B-4E4D-BB39-93538E6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2381-394F-4222-8CF9-D4C9727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6B19-D4C9-4D71-B76E-B6791F1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0C38-C120-41A0-B20B-A37D06B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97B-360F-4FC3-BA6D-18BFBE3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226CE-CEC1-4012-91D3-05BBA737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C3E0-F7D3-4656-89E1-0C23CB50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8EBF-1CDC-4FB7-9CFA-A119DFEB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70C66-BDEA-49EA-A74D-92F63116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FBC8F-A911-4E00-B3A9-FA8ADE5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6257-BDE6-492C-AA74-F9850E6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00E9-D3EE-49C1-A22A-58A7110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98F2-C51A-45F2-8675-86E8DE67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DA18-84FC-4268-93CB-25B2A2C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0A9E-68C1-4442-89E4-12D6CC4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F75-62ED-46CA-9FE3-B424AC4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738B-C073-4DEB-8E20-89E84894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9228-11C2-455D-ABDB-A1C5D5C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1B81-E730-4C44-B74D-C13015B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3AC2-D45A-4F3E-9A1F-895D1831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2D445-A02D-458E-9695-F365C8CC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B08C-AC83-4D9D-BAF5-88DA34D2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4CFE-26DD-486E-AA0F-2B11778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9AA4-709E-435B-BF29-D171115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DAE8-0480-4608-911D-C1C94F6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C541-01A1-4673-8ACA-BF45B05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5E0-8F60-4449-ADDC-44B785A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A13D-0156-4F72-B68F-445030D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8E8D-AD63-40B7-B487-E7F89DB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E117-52C3-412D-9A81-9950A0AF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4B565-56F5-483B-AC84-CB493C7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88FFA-5732-4BE8-A3D6-15F0E76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BD07-DFEA-419E-878B-9AF9EC0E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00B2-E696-4C34-9FE2-00C31A1C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9639E-B865-474D-9BB9-F6DC3C4D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BAF1-1244-47C2-ABCC-0ECE043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8D572-43C0-484A-8763-6660671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095-5510-4D6C-998D-D2EB70E7DA6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803-3990-4A8A-8391-7B199FF36F22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098-79E2-4313-AE15-4E53737F87FE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2AC2-13B0-44B1-84D8-C5A65EB32B8B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A8D3-FAEA-4853-94DD-9A1B204BCAA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AA1-25F4-45CD-ACA6-8F9AD6FF905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D28-E0A7-403D-8F84-BC25D243D0E0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C29-D5E3-4EDB-9B92-90B188FC1FEF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6A6-8E18-4257-8B7E-A8258D7F832D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ccff"/>
                </a:solidFill>
                <a:latin typeface="Comic Sans MS"/>
              </a:rPr>
              <a:t>HOW TRAINING AND FITNESS AFFECT THE HEAR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70" name="Picture 4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428760" y="857160"/>
            <a:ext cx="8286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a person trains regularly their stroke volume will increa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the other hand, the heart rate does not increase, it DECREASES, so the heart becomes more effici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increases the heart muscle in size, thickness and strength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357120" y="57168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DO WE MEASURE CARDIOVASCULAR FITNESS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85840" y="17733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best measure of cardiovascular fitness is called MAXIMUM OXYGEN UPTAKE or VO2 MAX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57120" y="3500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measures the ability of the heart, lungs and blood to transport oxygen to the musc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57120" y="54291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frequently used test for this is the BEEP T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428760" y="114300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OTHER TEST IS THE HARVARD STEP T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1219320" y="304920"/>
            <a:ext cx="6629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ARE AWARDED SCORES DEPENDING ON THE HEART RATE RISE AND RECOVER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0" y="16765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FITNESS SCORE = DURATION OF EXERCISE IN SECONDS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__________________________________            X 10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 X SUM OF RECOVERY PULSE RA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4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228600" y="3200400"/>
            <a:ext cx="8458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933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OTHER TEST IS THE COOPER 12 MINUTE RUN/WALK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533520" y="304920"/>
            <a:ext cx="7848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 HEART RATE OR PULSE RATE- This is the number of times the heart beats per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184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trained athlete it is likely to be less than an unfit person and it is therefore heart rate that is used to indicate a person’s fitness leve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3716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art rate can vary considerably from person to person and even within the same athlete, but 72 beats per minute is often thought of as being aver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57120" y="2602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S A WORKING PULSE RATE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57120" y="11970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working pulse rate is a measurement of pulse rate taken immediately after exerci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57120" y="278136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is an accurate guide to the intensity the heart has been working. A target range (Target zone) can be set for the heart rate to reach during exercise and this can be worked out using the formula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285840" y="3333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0-80% of Maximum Heart R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285840" y="16286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 The target for a 15 year old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57120" y="2852640"/>
            <a:ext cx="8786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-15 = 20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0% of 205 = 12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0% of 205 =16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refore the target zone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23-164 b.p.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ccff"/>
                </a:solidFill>
                <a:latin typeface="Rockwell Extra Bold"/>
              </a:rPr>
              <a:t>REVISION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sting pulse rate can also be affected by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857160" y="857160"/>
            <a:ext cx="5357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der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os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mo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dy temper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moking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XIMUM PULSE RATE can be worked out by the formula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059280" y="184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 - 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refore your maximum pulse rate would be:-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200400" y="4191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- 1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358128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0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357120" y="38088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 STROKE VOLUME- This is the amount of blood pumped by the heart per bea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28760" y="20574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 rest this may be 85 ml, but when exercising it could go up to 130 m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214200" y="189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. CARDIAC OUTPUT- the amount of blood pumped by the heart in 1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85840" y="177336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is governed by the heart rate and the stroke volume. The formula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7120" y="342900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rdiac output = Stroke volume x Heart r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0" y="4437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7120" y="464832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 example- If stroke volume was 10 mls per beat and heart rate was 70 beats per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0" y="6172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rdiac Output would be 10 x 7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7162920" y="6095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7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0:33:46Z</dcterms:created>
  <dc:creator>Dave Gray</dc:creator>
  <dc:description/>
  <dc:language>en-US</dc:language>
  <cp:lastModifiedBy>Lyn Clarkson</cp:lastModifiedBy>
  <dcterms:modified xsi:type="dcterms:W3CDTF">2008-01-19T03:24:56Z</dcterms:modified>
  <cp:revision>41</cp:revision>
  <dc:subject/>
  <dc:title>HOW TRAINING AND FITNESS AFFECT THE HEART</dc:title>
</cp:coreProperties>
</file>